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9276-394D-4C6B-B6C9-1863D3F64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ED77-876B-4260-8BC2-E00F11BB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A68F-27C7-4481-8094-E66328F6D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E3FF-65BA-4BB3-A75D-38111D6CE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74B9-F262-4DD4-96BA-5644CD65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2AF9-C4D3-4317-B368-1265F98A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A420-82D7-4486-B2B9-D7364CFD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C68A-1D41-4F58-BD50-71073195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D900-9502-47E5-BF4E-E85DD5B9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F388-0212-44D1-9822-08AECCD3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8C3C-0300-4699-A2C8-1436320D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7079-ED82-42F1-AD7E-73287C14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F12C-E6B7-4CC1-ABE5-6EF32CF624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Persuasive Essay Not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fferent Ways to Support Your Argu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66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Arial"/>
              </a:rPr>
              <a:t>Use F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Very POWERFUL tool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Can come from your research, observation or   personal exper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66ff66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Arial"/>
              </a:rPr>
              <a:t>Use STAT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Make sure your statistics come from responsible sources (always cite your sources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ff66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Arial"/>
              </a:rPr>
              <a:t>Use QU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Direct quotes from leading experts that support your position are invalu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ff66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Arial"/>
              </a:rPr>
              <a:t>Use 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Examples add additional proof to support your position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</a:t>
            </a:r>
            <a:r>
              <a:rPr b="0" i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i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persuasive writing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 u="sng">
                <a:solidFill>
                  <a:srgbClr val="66ff66"/>
                </a:solidFill>
                <a:uFillTx/>
                <a:latin typeface="Arial"/>
              </a:rPr>
              <a:t>Persuasive writ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a form of writing that use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motions, logi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thic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show that 1 idea is more reasonable than another ide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order to write persuasively, you NEED……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Arial"/>
              </a:rPr>
              <a:t>An </a:t>
            </a:r>
            <a:r>
              <a:rPr b="1" lang="en-US" sz="3200" spc="-1" strike="noStrike" u="sng">
                <a:solidFill>
                  <a:srgbClr val="66ff66"/>
                </a:solidFill>
                <a:uFillTx/>
                <a:latin typeface="Arial"/>
              </a:rPr>
              <a:t>issue</a:t>
            </a:r>
            <a:r>
              <a:rPr b="1" lang="en-US" sz="3200" spc="-1" strike="noStrike">
                <a:solidFill>
                  <a:srgbClr val="66ff66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66ff66"/>
                </a:solidFill>
                <a:uFillTx/>
                <a:latin typeface="Arial"/>
              </a:rPr>
              <a:t>or</a:t>
            </a:r>
            <a:r>
              <a:rPr b="1" lang="en-US" sz="3200" spc="-1" strike="noStrike">
                <a:solidFill>
                  <a:srgbClr val="66ff66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. That has A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pos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po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ewpoi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ew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Arial"/>
              </a:rPr>
              <a:t>In your Class President speeches, there was an issue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I or should I not be your class president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That had 2 opposing view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66ff66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 Viewpoint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I SHOULD be class presid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Viewpoint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SHOULD NOT be your class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id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 Tips to Writing a SOLID persuasive essay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Arial"/>
              </a:rPr>
              <a:t>Tip #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Arial"/>
              </a:rPr>
              <a:t>KNOW THE PURPOSE OF YOUR ESS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ose your topic AND your position carefully!  What issue or topic do you plan to discuss AND which side of the issue/problem are you going to argu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66"/>
                </a:solidFill>
                <a:latin typeface="Arial"/>
              </a:rPr>
              <a:t>Tip #2</a:t>
            </a:r>
            <a:br>
              <a:rPr sz="4000"/>
            </a:br>
            <a:r>
              <a:rPr b="1" lang="en-US" sz="4000" spc="-1" strike="noStrike">
                <a:solidFill>
                  <a:srgbClr val="66ff66"/>
                </a:solidFill>
                <a:latin typeface="Arial"/>
              </a:rPr>
              <a:t>KNOW YOUR AUDIE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ide if your audience agrees with you, is neutral, or disagrees with your positio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The way you argue with your mother or father probably wouldn’t persuade Ms. Lehma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66"/>
                </a:solidFill>
                <a:latin typeface="Arial"/>
              </a:rPr>
              <a:t>Tip #3</a:t>
            </a:r>
            <a:br>
              <a:rPr sz="4000"/>
            </a:br>
            <a:r>
              <a:rPr b="1" lang="en-US" sz="4000" spc="-1" strike="noStrike">
                <a:solidFill>
                  <a:srgbClr val="66ff66"/>
                </a:solidFill>
                <a:latin typeface="Arial"/>
              </a:rPr>
              <a:t>RESEARCH YOUR TOP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suasive essay MUST provide specific and convincing evid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ten this means you need to get more information from the library, books, and the intern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66"/>
                </a:solidFill>
                <a:latin typeface="Arial"/>
              </a:rPr>
              <a:t>Tip #4</a:t>
            </a:r>
            <a:br>
              <a:rPr sz="4000"/>
            </a:br>
            <a:r>
              <a:rPr b="1" lang="en-US" sz="4000" spc="-1" strike="noStrike">
                <a:solidFill>
                  <a:srgbClr val="66ff66"/>
                </a:solidFill>
                <a:latin typeface="Arial"/>
              </a:rPr>
              <a:t>STRUCTURE YOUR ESSA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gure out what evidence you will include and in what order you will present your evidence.  Remember to consider your purpose, your audience and your top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0:18:01Z</dcterms:created>
  <dc:creator>BPS</dc:creator>
  <dc:description/>
  <dc:language>en-US</dc:language>
  <cp:lastModifiedBy>BPS</cp:lastModifiedBy>
  <dcterms:modified xsi:type="dcterms:W3CDTF">2009-09-24T00:28:25Z</dcterms:modified>
  <cp:revision>3</cp:revision>
  <dc:subject/>
  <dc:title>Persuasive Essay Notes</dc:title>
</cp:coreProperties>
</file>